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E71-E35C-4064-A023-BA93497E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189-F514-4874-A6A2-48778F8C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C5F-D705-4ABD-900C-4811DFF6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F4A-9BDE-4940-A128-80E72C50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D93-14C4-4126-A2C3-59EB5358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D32-DE00-4895-91E7-B15BB97E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0CE-21CA-4111-B0FC-DC106FCC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BF7-6FD6-4BFE-9F8F-FDFFD31C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FEE-F435-43D0-8041-9146F1DB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3A8-E6D2-4ED5-BA83-C34F4204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9AF-967A-4341-B6A5-224414BC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BB2-78A4-4B10-B8C6-0F55ABAF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651E-3E9D-4C13-A36F-D0309D7EC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visenglish10.pbwiki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varian.net/dreamweavn/neverending/impossible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Story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ew Semester: Syllabus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hort Story Unit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grouped in teams of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eam reads and does assignments together while competing against other teams to have the best correct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will help or hinder their teams by reading and finishing assignments outside of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ring your literature boo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 Here is February’s assignment calend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C03) What is the most likely reason that Don Quixote is not a wealthy gentleman? Provi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ails from the story in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C01) The story shows exaggeration. Provi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ails from the story that support this id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24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48320" y="4343400"/>
            <a:ext cx="396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lose was your prediction to the actual pl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51814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“To Dream the Impossible Drea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0024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(LA06) What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ences between Don Quixote and the fictional knights he reads about? Include information from the story in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(LA07) Explain why Don Quixote decided to become a knight errant.  Inclu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ails from the story in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(LT09) Is Don Quixote’s decision to become a knight errant a good idea? 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ails from the story to support your answ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Don Quixote in his Library, by Gustave Dore"/>
          <p:cNvPicPr/>
          <p:nvPr/>
        </p:nvPicPr>
        <p:blipFill>
          <a:blip r:embed="rId1"/>
          <a:stretch/>
        </p:blipFill>
        <p:spPr>
          <a:xfrm>
            <a:off x="4871880" y="1600200"/>
            <a:ext cx="3589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Post-Read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Go home, cowboy"/>
          <p:cNvPicPr/>
          <p:nvPr/>
        </p:nvPicPr>
        <p:blipFill>
          <a:blip r:embed="rId1"/>
          <a:stretch/>
        </p:blipFill>
        <p:spPr>
          <a:xfrm>
            <a:off x="1752480" y="1143000"/>
            <a:ext cx="5791320" cy="4075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aning does this political cartoon conve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whom does it compare the cowb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literary device would describe this comparis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6520" y="5249880"/>
            <a:ext cx="4041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blogs.salon.com/0002255/2004/12/1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12952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opinions aside… this is a literary re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New Tard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st tardy-teacher w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nd tardy-teacher w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rd tardy-30 minute d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th tardy-Wednesday school/Parent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th tardy-Wednesda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6th tardy-Wednesday school/Parent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th tardy and up-progressive discipline/OSS (out of school suspe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doni MT Black"/>
              </a:rPr>
              <a:t>from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Don Quix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uel de Cerv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467160" cy="4695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52880" y="563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Goal- We will work on inferences, theme, and comparing when we read this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Goal- We will write our answers in complete sentences that restate the question in the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46000" y="2243160"/>
            <a:ext cx="3260880" cy="323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5562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Pre-reading &amp; Pre-teaching 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chart with three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following words into the first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group, guess each definition in the second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x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ights er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i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ac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qu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o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&quot;Lyceum, Don Quixote&quot; Print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0600" y="5867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Vocabulary &amp;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se definitions in the third column and compare your guess to them.  How close we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xotic- extravagantly chivalrous or romantic; visionary, impractical, or impractic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ight errant- a knight who traveled widely in search of adven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cidity- clarity &amp; ability to be underst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ulation- excessive praise or adm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inable- lasting or seeming to last for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able- pleasant or friend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lying- rushing forth sudde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site-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norous- having powerful or impressive 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acious- truthful or accu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quish- conquer or force into sub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olled- prai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ing the definitions, write a prediction of what this story will be about.  (Your group may discuss ideas.) Base your prediction on the vocabulary and pictures you have already seen on the slide sh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Biography &amp; Literary De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uel de Cervantes (page 8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n Quix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idered the world’s first novel because it is the first literary work written in prose (not poet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ody (page 8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ical literary work that mocks con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30920" y="1600200"/>
            <a:ext cx="347184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52880" y="6172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During Read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ck of your vocabulary paper, number the page 1-1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aragraph in Chapter 1, write a “This reminds me of…”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 the sentence with something this paragraph reminds you 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385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During Read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Chapter 8, write a “This reminds me of…” statement for each column.  There are four colum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03400" y="1600200"/>
            <a:ext cx="2744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cho Pa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9:18:53Z</dcterms:created>
  <dc:creator>Elizabeth Davis</dc:creator>
  <dc:description/>
  <dc:language>en-US</dc:language>
  <cp:lastModifiedBy>Elizabeth Davis</cp:lastModifiedBy>
  <dcterms:modified xsi:type="dcterms:W3CDTF">2008-01-31T22:20:46Z</dcterms:modified>
  <cp:revision>39</cp:revision>
  <dc:subject/>
  <dc:title>Don Quixote</dc:title>
</cp:coreProperties>
</file>